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9EC-DF6A-4080-BA74-80EE0243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C96-91F8-4F8A-BF2B-0F545635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CD0A8-0AF2-4608-9F1E-C8C9BB9D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78322-FE4D-4E30-A873-2AC065A3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D18CA-E911-48A0-A528-E9FDC510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2A38F-3D5C-4659-A8F6-68C51484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0D9DB-0B72-4F17-804A-763E789C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E6CAE-0213-4854-94C8-DDF8E849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1CBC4-D52C-4FFB-B86F-F7BBD068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873BA-9ABC-45D6-A8FC-3950F616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02660-235B-45E5-8856-7AC0C9E6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EAC-D9EF-410C-BE5B-0BE4EBD3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3D4-081C-4C49-A73F-42DE252A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B6B6-7637-4BA8-A208-5F6D5312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6C91-920B-48CC-93EF-2D5519D0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1434-CD65-4D1A-8316-5BB5BCD5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8BBE-9C5B-4F45-8BDA-50042F1D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5821-936A-4107-9B55-02CA941F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E7F6-0769-476A-BB83-E5E3E60B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9FD4-87F8-4B3B-8BA6-CDEBDC92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A97-5532-439E-912A-280F81E5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9357-0E5C-4423-86D2-563CB5E9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193F-C0A8-4098-8503-D8CDCB03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2EFE-D592-4352-8BFB-9A84CD21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DF3F-8C03-46AE-A1D4-338A0C0A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CE7C-72FB-4B10-A5E2-7AF135A0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23CE-5770-4E03-9328-B32EE5C6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320F-2966-4E03-86F2-B3EF1192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9D23-B31C-467D-A4FF-5EADAABC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98B9-8B54-4D18-8E97-AB90472A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1D9A-3A97-4B22-B51B-45976CDA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0F4-C9BE-4A48-91BD-5E691377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BED09-6DD4-4379-BF12-A8A50651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3D88A-4769-4B4C-AF9B-6EE44C38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70C1-503D-4981-83B1-BBD40E1C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7D2C-C494-4DB6-87E8-24E2219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7A22-8AB7-418C-BD71-B91D2F1B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3F76-A526-4080-9CBE-2EEF6278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034E-D960-4314-A283-B12A8D60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3307F-1E06-402D-8305-13A610EB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7B2AD-6A35-4C85-8B3F-FA575486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9A72F-CBE9-4D94-AAF6-4D404801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C2F-71AE-4FCF-9BA7-3D9C5B15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9F22D-686F-4FE2-BDCA-B14F1BD0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F382F-AD8C-49A6-887E-DD58414B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203B6-9FAD-42D1-B830-573E41A3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CB58B-AD48-4080-A70D-C5F3F9F2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996A-73D8-48D0-AECC-29642D14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1F9B-2FDD-4617-B42D-CA8C44E0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D56AA-02A2-4AC0-AF2D-F2434FB4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F4701-8765-4787-952F-871C7FBD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CB0C0-A2E4-4E66-9AEA-64C1CFF4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3700-3EC6-4FC8-956D-ADDF64AF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D1A-F7D8-44D8-BCFD-9DB6B5BA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987DD-46BF-41F1-B739-517A5E4A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7858F-260A-4DA7-B52F-0E778402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ECB0C-5828-4C7C-98B4-9A0824D9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BF31C-DE1F-4426-A492-026BBD52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40DF-31DA-46B1-BED5-5ECC08A7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E0681-0D63-4847-9890-A4065FD5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972EA-3B88-41C4-8773-50DF2933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8E84A-582F-409A-B935-8814B768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37043-173F-4E92-AD6C-31B9BD62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A795F-DB69-400D-A2BC-03502C33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CDD-E85C-413E-BA7F-E69D1BFE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1DD8D-3748-4810-9422-06305EF2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E1725-3811-44C5-89E6-3A0B16A3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A933-0416-4C07-BFD0-419BED6D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96A4D-3413-47FC-8DB1-09AF6F29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AB35D-84C9-4BEC-BF09-4D8741FC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7E06-4128-404D-ADA6-6CE2576B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8E1DB-355B-4EB9-A4B5-5F5E6ADD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8C401-5F47-4E02-9824-ED115A7C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54831-ADC7-40DC-A3A4-8899CEF1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0E38-EBA1-4B24-9A13-0D7C5B0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E1B-7736-491D-B9E2-1D3C2880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B95AF-4E11-45BD-AD09-0103E323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389BF-6D46-457A-B600-F3011249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83B8B-5D78-4947-B9E9-7E155584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903F3-C8FE-46AD-AE0E-5BA003B8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98CD9-0381-4987-9C39-A5F6BDAD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3432D-A1AD-4903-A627-C318F985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B779D-A261-4ECB-96CF-2EFFEEB2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CA1B0-E63C-4554-81B8-1EBC7FEC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581B7-DF3B-4159-9BE9-2480651D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A47E9-D6A0-4763-8284-C93EC5EE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381-084F-4A08-BD9E-05C65610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8B4AF-0989-46D0-A612-DB6AC32A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04845-1828-4D74-BD90-C04699D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CFC21-20F9-4BAE-A2AA-85FB82E7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DAF0D-459E-48DE-B934-0526644E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0BDD2-B5E6-4052-8341-A68C6C3F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B2723-30CE-4AE7-948E-8CBF8A17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D5F70-B427-469D-9B18-8BBEC96C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B38B4-BE68-4825-A380-21550874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26D2F-8233-4910-BA4A-A45DA81C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4A470-84F0-4713-84E6-17CFBEEE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895-BACD-4E18-9DC9-4BDF5F79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B4F22-6FAD-4F6A-A482-12ECA4EF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4D428-DE38-4038-84B5-061AC0FD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721C-90DD-440A-AAA9-BE7F183D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C7591-C3B2-454B-9588-5AA86DEF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0EEEE-AEBE-4140-B8C2-E52AFE5E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01F3A-9519-4912-84D9-D23BE2A0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C4452-2937-4854-9E95-E94B646A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1162D-DEDA-4C5E-81C2-84B0B6E7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D0843-AE82-4C7F-B9C0-CF532F4A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E15F8-869A-48CF-A63D-BBFD4D83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D5B0-4F80-4865-9E2C-4E03E2B18609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A83F-418F-410D-B388-6E9F3A6B2333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FAF8-FC45-4A82-8FDA-DC3F53E71C3B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A7DA-8751-496F-9956-F7C3C1DD8D23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BBA0-F4B6-48B9-A9C2-C2BB5073A23F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9BC8-712A-46FD-AF16-EF868F351C1A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CBD7-21D0-4A47-BF4F-0AE43E76762E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A4B4-BF5F-4E0E-9EF3-2CEE8A204632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259A-FCD7-433C-A5CB-391B154E95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u 1" descr=""/>
          <p:cNvPicPr/>
          <p:nvPr/>
        </p:nvPicPr>
        <p:blipFill>
          <a:blip r:embed="rId1"/>
          <a:stretch/>
        </p:blipFill>
        <p:spPr>
          <a:xfrm>
            <a:off x="536400" y="517680"/>
            <a:ext cx="8186760" cy="13237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luția americană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re proiec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tor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:GALEA DORI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o-R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ghezia, în căutarea unei ideologii proprii, a apelat inițial la ideologia religioasă protestantă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u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4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grup de americani, deghizaţi în indieni, au urcat la bordul navelor engleze şi au aruncat toată încărcătura de ceai în mar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2"/>
          <a:stretch/>
        </p:blipFill>
        <p:spPr>
          <a:xfrm>
            <a:off x="4876920" y="2243160"/>
            <a:ext cx="358128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xa pe timbru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xa pe ceai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ipsa de reprezentare în Parlamentul englez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omerț doar cu metropol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litica fiscală excesivă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ontraban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Picture 7" descr="270px-13_colonies_in_1775_%28large%29"/>
          <p:cNvPicPr/>
          <p:nvPr/>
        </p:nvPicPr>
        <p:blipFill>
          <a:blip r:embed="rId2"/>
          <a:stretch/>
        </p:blipFill>
        <p:spPr>
          <a:xfrm>
            <a:off x="5129280" y="1600200"/>
            <a:ext cx="30765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"/>
          <p:cNvPicPr/>
          <p:nvPr/>
        </p:nvPicPr>
        <p:blipFill>
          <a:blip r:embed="rId1"/>
          <a:stretch/>
        </p:blipFill>
        <p:spPr>
          <a:xfrm>
            <a:off x="2190600" y="2144880"/>
            <a:ext cx="4762800" cy="3198600"/>
          </a:xfrm>
          <a:prstGeom prst="rect">
            <a:avLst/>
          </a:prstGeom>
          <a:ln w="0">
            <a:noFill/>
          </a:ln>
        </p:spPr>
      </p:pic>
      <p:pic>
        <p:nvPicPr>
          <p:cNvPr id="428" name="Rectangle 4" descr=""/>
          <p:cNvPicPr/>
          <p:nvPr/>
        </p:nvPicPr>
        <p:blipFill>
          <a:blip r:embed="rId2"/>
          <a:stretch/>
        </p:blipFill>
        <p:spPr>
          <a:xfrm>
            <a:off x="390600" y="268200"/>
            <a:ext cx="830268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2190600" y="2144880"/>
            <a:ext cx="4762800" cy="3198600"/>
          </a:xfrm>
          <a:prstGeom prst="rect">
            <a:avLst/>
          </a:prstGeom>
          <a:ln w="0">
            <a:noFill/>
          </a:ln>
        </p:spPr>
      </p:pic>
      <p:pic>
        <p:nvPicPr>
          <p:cNvPr id="430" name="Rectangle 4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8" descr="280px-Yorktown80"/>
          <p:cNvPicPr/>
          <p:nvPr/>
        </p:nvPicPr>
        <p:blipFill>
          <a:blip r:embed="rId1"/>
          <a:stretch/>
        </p:blipFill>
        <p:spPr>
          <a:xfrm>
            <a:off x="4572000" y="3809880"/>
            <a:ext cx="4191120" cy="2895840"/>
          </a:xfrm>
          <a:prstGeom prst="rect">
            <a:avLst/>
          </a:prstGeom>
          <a:ln w="0">
            <a:noFill/>
          </a:ln>
        </p:spPr>
      </p:pic>
      <p:pic>
        <p:nvPicPr>
          <p:cNvPr id="432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4"/>
          <p:cNvSpPr/>
          <p:nvPr/>
        </p:nvSpPr>
        <p:spPr>
          <a:xfrm>
            <a:off x="1066680" y="1905120"/>
            <a:ext cx="243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1781, în bătălia de la Yorktown, armatele americane şi franceze obţ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victorie decisiv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yorktown_map"/>
          <p:cNvPicPr/>
          <p:nvPr/>
        </p:nvPicPr>
        <p:blipFill>
          <a:blip r:embed="rId3"/>
          <a:stretch/>
        </p:blipFill>
        <p:spPr>
          <a:xfrm>
            <a:off x="4495680" y="91440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o-RO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luțiile burgheze reprezintă un pas important în drumul spre modernitate, spre o societate a drepturilor și libertăților cetățenesti impuse de principiul separării puterilor în stat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ie Jerome,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 atlas istoric al Timpurilor moderne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lirom,2001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I Pippidi, Monica Dvorski, Ioan Grosu,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orie, manual pentru clasa a VI-a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itura Corint, 200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e-scoala.ro/informatica/index.html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o.wikipedia.org/wiki/Portal:Educaţie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eferat</a:t>
            </a:r>
            <a:r>
              <a:rPr b="0" lang="ro-RO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/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2:41:04Z</dcterms:created>
  <dc:creator>Teo</dc:creator>
  <dc:description/>
  <dc:language>en-US</dc:language>
  <cp:lastModifiedBy>acer</cp:lastModifiedBy>
  <dcterms:modified xsi:type="dcterms:W3CDTF">2010-06-14T09:11:40Z</dcterms:modified>
  <cp:revision>13</cp:revision>
  <dc:subject/>
  <dc:title>Revoluțiile epocii moderne</dc:title>
</cp:coreProperties>
</file>